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5CE-65BB-485B-9344-C4C08562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F7C-AC82-4681-BAD7-DDADA682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EF669-1800-4E30-A34D-6238B5C7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64DB7-7621-4E11-A1BC-7C086BDD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BE59B-70F8-4033-B791-86CA005E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78656-F022-4AE3-8F4F-3AD8C8B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6804A-B505-4E92-B123-5AC492F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D45C7-0698-4B35-9CA3-96A5524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80BD6-6B3A-4E95-B4BB-403EF17B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0FC25-D150-4E23-9DD8-FE9FF56D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9CEAC-60E9-4C41-8A87-44DBE65F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E5039-B4ED-449C-8CE3-78B8E770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AF7-5335-4DE0-80A8-C628A7A3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93098-D3B9-4AAF-9722-89C8DBE6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CDDC5-3379-4690-AF98-ADA0527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B4D9E-3F7C-4CFF-84B9-128B93EE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2F522-898A-4ACD-B553-FFB26B4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D5D2D-963D-4400-A096-3EE513B0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0F7A3-B9FA-4377-A737-42F1FEC6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4C79F-CD41-45B6-8852-311738C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862C7-64E0-4A9F-A9B0-5E46403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018C7-BE55-456B-B34C-642069D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64911-B9DC-4CF8-9975-E5134A0D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040-2CF0-40CF-89A3-AC3AC0A1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E20F1-E334-4A81-AAE5-73246214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A9FF5-4D07-4BD0-89B0-3D765DCC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CEE37-52AF-4DFD-98B4-0A2FF877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524DA-75AE-47FB-B2A3-BBAC37B0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1D193-C2C7-4987-9C07-967B145B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CDAA4-E5F7-45BA-BE83-DAC71FC2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F2C1D-0CB0-49C1-A903-714EC42C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9BB21-2110-4FA1-8A2B-2527224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D0D03-8414-4BC3-95D1-772B26D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80C13-ADD4-469F-99D5-2BF5C17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59E4-B48B-454F-8B81-A8D36FAA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216CB-C45B-42B7-8E0D-AD18093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86176-A280-4761-B429-94D0E976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B4B96-D9BC-4B60-832B-E88C6742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ECF2C-48D8-4C79-97F7-081F8298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BA977-4091-421B-AAA4-4336978D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41871-F53F-4C8E-A0B4-5E99276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2AE48-E1CE-4E98-B894-9A631E6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051A0-A8EA-432F-AC2E-D2A22936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A5D7C-11AA-4327-B8EC-F4612513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EE019-B930-43FD-99C7-9536381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FA1C-B121-42C7-946B-1726E7A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B9538-2AFA-4050-A4C1-E5677B8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7A3C9-1C7B-4815-89D0-F654043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0CD9D-343E-481A-ADFF-54D0DACC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C5BF0-2CD7-44F2-8BE4-9C550BC8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0EDD3-66E6-4E5B-8F39-369FC1D7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4A7E6-56B5-4818-9C2D-333C60F2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181BD-A36C-4031-B70B-E0B14652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30B24-075C-4CE3-B4B6-6EE9BB64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279E8-8EE7-42FC-8851-D393DED4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156D6-68F2-4972-AFBA-52478E9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D280-09E9-4CF7-A55B-3C64881F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92644-6735-484C-B45D-07C90A81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EB8BF-7110-4948-A4E7-06692FD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45D4D-A616-4FAB-8117-7E8FD72C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892E8-F86F-4D89-87C3-08735297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0BE2A-45FD-4B1F-B758-C28389CD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D30E2-CBDB-4307-919F-1E37AFCE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912E7-33B3-48A1-8CBC-1C8F6AF4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90E76-8D2F-490A-9C44-8F385046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787BA-D6CD-4177-A89B-EC3E1A3A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0C117-8CB9-4661-BBA5-042FE2E5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4EE0-4E04-43CA-97EC-4606363D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628A7-1035-47C9-9234-C160A7F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5AC38-23E1-4108-B87D-664AC88F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5FE3A-44D8-46AA-9680-D539217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8C673-F77D-49F1-B67B-824F0418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64F84-96D5-41F4-BFF8-B3F7A60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25469-D75B-4B8E-A170-EB610AF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B04CD-6FE4-49D4-9D3E-99AA410F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DA283-B5A0-4646-ADEB-B0641FB3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04901-BE7B-44A5-9C65-ABFAEBF8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F96BB-0F11-4D1D-BF11-07E3E46E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F567-AD23-4679-896E-27F3C21C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A1BC5-A18A-4686-99FD-09DB0D64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BFB6F-D60A-4E94-99E8-F2AE459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31B25-6A01-4875-8145-8DDB8CFE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BCD28-FBDA-42D8-97F7-90C19B3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E7E15-D196-4846-8FA2-7EF7E4BE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DD7CB-48EA-4A7A-B75E-0383302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0CDE3-86FE-4143-9B1A-29B23A3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DE904-5880-4833-8119-C82AA0C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30B50-8018-459A-A4BA-18E05938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FAA5D-0523-44C2-9A3B-C033CC20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27C9-87EB-4C22-ADD3-46D086B3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D0913-73E9-4F7C-81CF-1C6A3ECF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11372-B0A0-4DD0-889E-71EC2371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165D9-8C8F-41E8-87DF-7CA6F3F6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E8D3C-4EDF-4239-A39D-C66E5B83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2AC28-F7D2-4294-B076-72C13380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CA6BA-2B40-4B62-A4D3-E6592588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C3086A-D63F-413A-AA26-23C34E68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A79D2-88DE-4874-82EE-D7DE517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F19DF-7EC5-4B7F-97AA-0E3B179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93E87-DBA4-417E-ACD2-EB807B5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F738-F07E-453C-BDC1-2659BCC6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B7C60-E3A4-44E5-8CAB-0F1C6950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776A2-6EEE-4445-AEDB-DDAD2E7D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1DE1D-233A-4AE1-B9EB-B4B05B50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829CD-DA6A-4B4D-BB63-49ED90B6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3A23C-CCB2-4994-85D5-264FE389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684CC-460E-4CC1-AE95-5DC2C825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AD812-9CE2-49C8-88FA-014BD5B6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7A2A2-8C4D-4EDD-A003-C4BB5CC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C306C-7690-42F8-8485-DD60ACF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E0341-DA01-48C8-BB7D-858B51DE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69C-B1CA-4ED9-A6DD-D641BFD0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EFC1-D553-4867-88B9-D3E63DE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1FA0F-9179-4279-B902-D811B03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E3C28-BAAD-4362-A289-CBDB02A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2FC41-AF87-4815-A4A6-6C724710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E72D3-2423-4C2A-B8E2-31B6FC9F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552AC-0DAC-42D2-9A6B-31D4A05B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9B5AC2-3962-4FA1-B321-74C38C38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D373F-0027-41D8-B30B-CFF0D69C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30A067-7D19-4ECB-8B2A-70DBDB1E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8333B-EFD4-4E58-B2B4-7D9B89ED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3D40A-10CC-4AF0-AEE3-E0ECF27C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92E0-E2DE-436A-A24F-C287206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C8180-FA16-40D0-9DDA-FA59A9F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4F5FE-9F87-41C5-9025-F4A76617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69860-DAFE-4F18-9E51-C6E3A4D0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6EC17-49B9-40F7-8EC4-1F4680B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56080-5923-4888-9809-DCDF95E0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46231-50A7-4EE7-A9B1-431FBF46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7DC18-FF30-4012-817C-71767D9A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2BB03-7996-42CD-9E62-8AE53AC3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45DFC-78B5-4780-8969-9E7B8A06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19D15-97F3-480F-87BB-5A134AAB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8A4D-FF2A-4073-AE7B-9458E0E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54ACD-B870-4080-ADE9-2EBA9A65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741CF2-A6A5-45D5-BD8D-ACA07BA2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48802-BED6-4EB5-B94E-8723C75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E358B-7CD0-4BAF-A6A6-D24745E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7F633-4A0C-4226-A6F7-D8260F53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E78E6-35B0-4D79-BE1A-0252FBB8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2CCC28-01B6-4E74-95CB-EB5B2973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F7C56-ACA9-47EF-9AB8-625D5A0F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F72A5-BE47-4312-854B-0AFF0EA7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8BFAAE-99E8-44D7-BD42-95A55D73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3517-2301-4BB7-993D-A08D72CE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4D2A26-8FB3-467A-9106-9EE62CFB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EBD15-A638-405F-955D-BFEB68B6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CADE9-37E7-4106-B3CA-FC6A0247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453A0D-A569-4AEC-95E7-4DB13FD6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BF9CA-A823-4338-8646-6DFEB3B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CBB35-1494-4549-874F-58F7F282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9C63C-A1E7-4D77-9874-850102A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66EED3-4B83-4BF9-9E34-0CE622C8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B336B-8C1A-425B-88A3-7BDDB21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B358DC-9C7D-4560-8BCA-FC8CCC45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1405-8A6A-45CE-B6AF-02A3B020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3B68F-CD5A-404D-8B31-FE9EEBF8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2C236-5DDB-43DC-95E8-CC0556A6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85B35-CFD6-4FB1-9486-1D0DC22A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8535F-C22D-45CE-A51A-A3D99721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C8F3E-4A83-41F3-A7BD-F18C7F94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67E76-E5ED-4738-8815-7B652F27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4963B-6874-4886-81EA-CB3BC834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57AD1-DE7C-463C-9C40-54020C7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95DD5-4D3C-4324-9FC7-BBCC33B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70E65-DCC9-4809-9FA8-70640782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4D1A-CBD1-4C7B-AA88-D9F4642C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C484F-D9C3-4B80-9DD6-442097E6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C5EA5-49C2-4B90-9CE8-2BD6E23B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984FB-2A72-4819-ACDC-B6CAD82D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1C2839-8833-4EA9-A4C1-D90B85DD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6DFCA7-0E9C-4516-B597-B012B9A2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7F4119-168C-4EF6-9C71-033EC9C3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ACED88-74D0-4647-8983-1ED8B48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1FC988-5CBB-469B-B0A0-E3432A71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E2C53-4553-42E6-B772-4C26AB43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FCC6E5-E00C-4910-BF5F-4FDB0E38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5CF9-5C08-46E5-A0B1-A3A9FC42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FB6F1C-E579-468A-915F-AD6F0CAB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43A41-7139-4E2B-949D-4467F0A5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F2D4F-3428-4B85-9217-D56A0439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6987D-FD2C-45E7-8DAA-34AA6C4B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D5C9D8-367F-42A3-8300-D19906EC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545ACB-54A8-4E14-8900-8673D4D4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C357F5-F21C-4D1D-9B57-D4D3C0B9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21AFB-C877-4373-A40B-5E4CA89C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1B2651-9628-4F9C-AA82-5116736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CCEB87-4E16-4A69-9AF1-5F318964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DD6A-F0B3-4B3F-B41E-2FF4FCDE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4BA240-11D4-4E31-AE1A-FF8B11AD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A161CC-9C59-49B6-AAAC-F10B0EE7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8CEB5-72BB-471D-AE21-867FCC2D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C1BEE1-DCCE-4598-B6B2-E6ABA377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0D395-8128-451E-AE1E-15159D20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AEB318-800C-41CE-AAF6-8309F6DF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CD0C07-A0EA-47F5-A40C-ED8734C7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048C-6D6F-4D4E-AF1A-22CE8DC6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FB6B-90B1-4562-A0A4-ED698C40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F9A-D462-4A60-A7CF-46F70F4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D8D3-D018-46F0-8DB9-441AEE7E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D51C-E029-4371-A645-1C484F87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3065-AB5A-4579-B8C8-4E1189D6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2BD9-AB29-4373-B0C5-F12BE9BD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66B5-553F-46E1-BF7B-59853D7D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37A3-573A-4B75-8C4D-D2EEAAC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C1C3-CFAF-46A3-86AD-8E1A4F62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91D0-E9F9-4448-80E0-D2DFE52A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B777-3450-4755-BD48-E6B7B4F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F8E0-CA52-4DB1-9CBD-1DB477F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3ED-287C-43D8-A78C-3E9A14D2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4FCDB-F32A-4FC8-B21A-088F3706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74CC-ABBE-4668-BAC0-A5BB070F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92C4-3D2C-4D3A-B109-33181691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BA8D-44E1-49B8-9F39-524FB9CE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8C6F-BE14-43D3-A7F7-2C9B9D2D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586E-81C8-4DEA-A3BF-889512E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D65E-9B9E-4789-BF05-261790E4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1DED-D523-41C7-AB7B-BA25DAD0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0310-7218-40C0-B0A8-1CE4EA26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F2F12-81CA-4DD2-BA75-370E947F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D0A-6DEC-48D7-8913-1C3A0AEB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5BD7-662D-4FDA-9E9E-3BFF82F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7EEC7-B2A6-4367-8C9F-CEE6E61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3FC05-A433-44F4-8EFD-44DAC6ED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7FC1-B1FC-4D3C-96A4-8598DC17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6A1BA-A2AB-4192-8ED8-80F6B2E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3135B-8DBD-4E37-84BC-7B1C427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57A0A-B669-410C-9127-06E1F73E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2D7D-EE70-4487-9141-BF0BBB4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682BE-911F-4D4D-B159-EFE40FE9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5E712-0013-4E0C-A86C-83152E78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273-A6E0-44BE-86F0-3BF9E10D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1E73-F42E-4E2D-8749-4E8FBA8F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5DA96-4574-4848-B1A7-6B4651D2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2ACA-627A-4098-AD2F-0F302E7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6ED51-55B2-464C-A086-9F4EAC9B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41403-F8AA-45A8-B915-6C5A4E21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68C12-26AD-41C6-B84F-0ECE1089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CC5C5-9481-4F13-8272-287B553E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FA250-B43D-4686-9F5B-BD1DF4D8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0811-A33D-40CB-8569-5080F5D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054E-CF98-49D8-B89E-1B3DBB1C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AD9-BAFB-4106-86DE-2442ABE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41AC5-4BFA-4428-BDC1-33A42C52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4C21C-00DD-4455-A91C-01C7EC76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D104-C229-48C8-96BB-45C1AD85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32EEC-4D12-4059-A448-D04743DA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53B6-CF33-4008-BCA0-C4DDDD60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2E49-96E2-4F88-852F-4A55E4B4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73FD2-BFC2-44BB-9C00-857C87F6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636DC-E91E-4CA6-9476-982C5A5B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A7C75-DEFC-4F6C-A5BB-CE08B347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C39A6-C348-48D0-8EFB-8B5102C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3D3-4E80-4EBE-BDD8-2B68BA7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DBFDD-718C-4960-A32D-CE3EC5B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C94DE-F30A-4567-8CE5-F3FBC64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B9CBC-E8A1-4008-9160-582C60C9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4C2DB-57F2-41BE-BF70-D9384FFE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CBC3F-3ABD-4C52-82A0-AA1E8CBF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C09C4-6987-4590-AC9E-C9258EB1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17B63-2992-4C9F-933A-90C7FE6C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E1AE1-47D6-4DE6-9240-0B7A53F0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4EA66-C0D5-4690-BE42-B4A76672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8BE4D-45A6-412F-8BD7-0A07E330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51A-588C-457F-8E26-9B34D20B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B0C11-A947-47A5-9FAD-8E0FD56F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865B-790D-43A0-9769-849F058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8E791-86EE-4F8D-82B1-307528E5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294E-E608-4A42-AC03-0E847E10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BEAAB-63E9-4C8D-84C3-76847420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B22FC-F0B9-4D52-B6DE-3E353EFB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C2F51-AE37-4110-AC71-6F81D643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769C4-F80A-4264-BADC-0BAB5A5D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B9288-CA44-489D-96DF-F7EF6878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E3607-54CB-4874-95A7-CD6D2BE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EBF8-C3B1-48B6-95F6-1D3250C905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2B38-FA36-4394-BF83-47AE0E72B0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6BDA-8588-4915-959C-6C1B651A2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2368-AA99-47A2-B842-6E78FED714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303C-D56C-456C-AC59-7F4AA43D4D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0787-8CA7-43B0-AAA3-9D8E4ED83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8ACD-984B-4375-B618-C71672EFF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1CB-794F-445C-B9E7-F852B6DF74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3F3B-B631-4F74-B8B8-62B50E1428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7F64-2D16-467E-AE71-35E76F7A51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EC15-6A05-409D-883D-6E16984B52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F8B5-595A-4F86-96A7-9E29C793DA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221B-EFC6-493A-9EE5-BDA0E7266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CFF6-BD3C-4EDA-9BC3-F7BDBD551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687C-23C0-45C5-8195-B4AD76877F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920F-3232-4990-8D81-E4B7F45D9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946C-496E-41B5-A83F-FF3CEC0AB7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ED5-53E9-4C5C-8612-8ADAB9B90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0542-5256-44EE-941A-76256EA4F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AD26-E739-4230-8196-6D0DD1718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AD3-51B8-4C5F-9B76-3C561187A0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B5C-785D-46FB-B154-3C1AF22FE4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1136-3B42-460A-B73D-D139E1193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DB7D-1E16-42F5-8ADD-D6D5920386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8ED1-2D10-4B90-A692-63A88A35C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836D-A827-47FF-9A24-2A4165F36F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0652-933F-431C-9327-F26927BA1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F78F-90C3-4802-99AD-39FCD86227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DC9D-6BAA-4615-8F8A-AF63D58A62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577D-D454-447B-879E-C568601DC8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B535-59E6-4BAF-BC85-BF6F923BF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6669-604B-4173-AECC-346E2ECF5D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AFD4-078F-4B5A-A9DA-DD4548F6D4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6CC9-23B8-4CCD-8F39-7CB1256D94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ED1B-46FF-42BC-9B23-932F3ECE2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A879-119B-4BE4-9962-3D48830A1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BD1-BE05-4966-912F-03BED13B9C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905F-AC66-4820-8FD9-7A7DA4F58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DB31-4B41-4785-A6E6-B2B55F895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5FF1-B018-4001-B502-4606269B0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35E6-D4FD-462C-8A6D-9E696CA6D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6F7D-E4B4-4A71-9574-A70E07057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03120" y="3094200"/>
            <a:ext cx="8236080" cy="66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62080" y="933480"/>
            <a:ext cx="8619840" cy="4991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7561440" cy="1081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756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90600" y="914400"/>
            <a:ext cx="8362800" cy="56102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3687840"/>
            <a:ext cx="23749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50872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492360" y="5172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6372360" y="521496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338040" y="1095480"/>
            <a:ext cx="8467920" cy="46670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2374920" cy="20890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2987640" y="211932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5438880" y="2665440"/>
            <a:ext cx="2878200" cy="31399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7091280" y="2076480"/>
            <a:ext cx="172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419040" y="1262160"/>
            <a:ext cx="8305920" cy="4333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2879640" cy="30240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3002040" y="1628640"/>
            <a:ext cx="16412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022560" cy="3024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7120080" y="1628640"/>
            <a:ext cx="16412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81160" y="1138320"/>
            <a:ext cx="8581680" cy="4581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635280" y="31701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635280" y="4033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3635280" y="48830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7667640" y="23353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7594560" y="31561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7594560" y="40194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7524720" y="4869000"/>
            <a:ext cx="1077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757080" y="2333520"/>
            <a:ext cx="7629840" cy="2190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435600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7308720" y="34574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37960" y="876240"/>
            <a:ext cx="8668080" cy="5105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3060720" y="3198960"/>
            <a:ext cx="430200" cy="382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135920" y="321300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2828880" y="4264200"/>
            <a:ext cx="430200" cy="38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135920" y="424980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3044880" y="530064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7149960" y="5288040"/>
            <a:ext cx="4302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90440" y="885960"/>
            <a:ext cx="8763120" cy="5086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826920" y="5315040"/>
            <a:ext cx="79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66680" y="1266840"/>
            <a:ext cx="8810640" cy="4324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00000" y="406080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669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6:2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